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1B4-4DDE-4FF2-8623-F56372E6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A40-1893-44B2-95CE-93F5C57A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D83-6669-405C-B53C-2A61A0FD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985-70E2-4EC2-8115-31078EEC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53CA-7621-45E0-AA7D-48FBEC43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3F2C-2CAC-4EC9-90D5-E11ECEEC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8A96-7962-4914-8AD9-905E5C4D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C967-8C19-4689-9DAE-6925ED52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1A3F-BDB7-46CD-A8DD-24704239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CE2E-F342-456B-A5BB-7022DC14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1F4F-22C7-4693-BC41-49C49E43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F3D-ACC2-4A40-9D81-16717BEE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9AC9-5F3B-4053-B070-838AD906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624F-7EB0-4F3F-A788-769A1A32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B3F4-D6A0-41AD-93AC-04E6FD4F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D8B9-FA57-4C90-9F43-5387C540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18C5-2F2A-4DB2-927D-E5D8A8C6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C580-D405-49FA-A5F5-B4639455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088-AAFD-40CD-91EA-0CFC54ED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F86-BA05-427B-ABF3-BB4AD18D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8AD-736D-447B-81AE-533D38EF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A75-9D03-4A6C-BB39-9C8509FB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591-22BA-48B0-AB03-ACB34E90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1F8-0D26-426A-8CAA-390744F0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7F60-E986-467C-AC35-4F9C0254EB2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47DB-4C1C-470A-AEEC-41D628202AD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152360"/>
            <a:ext cx="8242200" cy="2230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im Griffi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2514600" y="5562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3436"/>
                </a:solidFill>
                <a:latin typeface="Book Antiqua"/>
              </a:rPr>
              <a:t>http://jottit.com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Book Antiqua"/>
              </a:rPr>
              <a:t>Jottit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is another Web 2.0 tool that lets you easily create your own website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hoose your site name, and then claim it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You can set normal security settings such as passwords and select the privacy settings for your site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ontent is added to a page through a text box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ormat the page using “markdown syntax.”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Under the design tab, you can change the color scheme, font size for the header, sub-header, and content of your site. Add as many tabs as you’d like, too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good way to insert tables for your site, the layout will be kept rather basi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drawback is that Jottit’s simplicity is limited to those that know what they’re doing. Without a WYSIWYG editor, or the options of a typical site creation tool, Jottit isn’t the most intuitive service to us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’s no networking involved, so you won’t be able to easily find other websites that have been created under Jottit’s servic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1447920" y="6172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daringfireball.net/projects/markdown/synt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422360" y="0"/>
            <a:ext cx="11175840" cy="83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3:53:09Z</dcterms:created>
  <dc:creator>griffithjg</dc:creator>
  <dc:description/>
  <dc:language>en-US</dc:language>
  <cp:lastModifiedBy>griffithjg</cp:lastModifiedBy>
  <dcterms:modified xsi:type="dcterms:W3CDTF">2009-12-03T17:25:28Z</dcterms:modified>
  <cp:revision>18</cp:revision>
  <dc:subject/>
  <dc:title>Jottit</dc:title>
</cp:coreProperties>
</file>